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A32-F724-411A-B892-4A8ED447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F7B-7BAC-4145-B836-06437699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D5D-D8D2-48FD-BAA1-1921F835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A7E-966C-49D5-9BD4-01AF481C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026-0E53-4F35-A50A-1CCDC632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9C7-1A1F-4366-BA9E-ACEA6C65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5BE-13E8-4881-AF06-AE17DF36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FB0-B7C7-4303-99C5-631DE04D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941-7974-40E9-BE97-9F4D1A92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879-59E5-427C-85DA-05770157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D82-373B-4F97-A79A-DF6C8EB9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0F7-67BC-4839-BB26-73494DB0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eaeae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4621-E8DC-4481-A987-5BE523E88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hiller"/>
              </a:rPr>
              <a:t>Gorilla vs. Alligato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Chiller"/>
              </a:rPr>
              <a:t>A sad st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6400800" y="2998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914400" y="3808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Documents and Settings\jjohnson\Local Settings\Temporary Internet Files\Content.IE5\64TZQHQH\MCj03121220000[1].wmf"/>
          <p:cNvPicPr/>
          <p:nvPr/>
        </p:nvPicPr>
        <p:blipFill>
          <a:blip r:embed="rId3"/>
          <a:stretch/>
        </p:blipFill>
        <p:spPr>
          <a:xfrm>
            <a:off x="4267080" y="0"/>
            <a:ext cx="822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2133720" y="8380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One day they did not know what to pl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Blackoak Std"/>
              </a:rPr>
              <a:t>?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736200" y="5105520"/>
            <a:ext cx="844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A man said “football!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jjohnson\Local Settings\Temporary Internet Files\Content.IE5\W6W5RWIA\MCj01988200000[1].wmf"/>
          <p:cNvPicPr/>
          <p:nvPr/>
        </p:nvPicPr>
        <p:blipFill>
          <a:blip r:embed="rId1"/>
          <a:stretch/>
        </p:blipFill>
        <p:spPr>
          <a:xfrm rot="2320800">
            <a:off x="3368520" y="2097000"/>
            <a:ext cx="21402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le 1"/>
          <p:cNvSpPr/>
          <p:nvPr/>
        </p:nvSpPr>
        <p:spPr>
          <a:xfrm>
            <a:off x="2514600" y="30481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said h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:\Documents and Settings\jjohnson\Local Settings\Temporary Internet Files\Content.IE5\W6W5RWIA\MCED00105_0000[1].wmf"/>
          <p:cNvPicPr/>
          <p:nvPr/>
        </p:nvPicPr>
        <p:blipFill>
          <a:blip r:embed="rId1"/>
          <a:stretch/>
        </p:blipFill>
        <p:spPr>
          <a:xfrm>
            <a:off x="2819520" y="1523880"/>
            <a:ext cx="3047760" cy="2749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1027440" y="4952880"/>
            <a:ext cx="79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The man taught th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le 1"/>
          <p:cNvSpPr/>
          <p:nvPr/>
        </p:nvSpPr>
        <p:spPr>
          <a:xfrm>
            <a:off x="2590920" y="12952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So they play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1447920" y="33526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jjohnson\Local Settings\Temporary Internet Files\Content.IE5\FMIT817P\MCj02998950000[1].wmf"/>
          <p:cNvPicPr/>
          <p:nvPr/>
        </p:nvPicPr>
        <p:blipFill>
          <a:blip r:embed="rId3"/>
          <a:stretch/>
        </p:blipFill>
        <p:spPr>
          <a:xfrm rot="18156000">
            <a:off x="5736960" y="3595320"/>
            <a:ext cx="1827360" cy="97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jjohnson\Local Settings\Temporary Internet Files\Content.IE5\FMIT817P\MCj02998950000[1].wmf"/>
          <p:cNvPicPr/>
          <p:nvPr/>
        </p:nvPicPr>
        <p:blipFill>
          <a:blip r:embed="rId4"/>
          <a:stretch/>
        </p:blipFill>
        <p:spPr>
          <a:xfrm rot="1181400">
            <a:off x="1938240" y="3556080"/>
            <a:ext cx="1827360" cy="96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Documents and Settings\jjohnson\Local Settings\Temporary Internet Files\Content.IE5\W6W5RWIA\MCj01988200000[1].wmf"/>
          <p:cNvPicPr/>
          <p:nvPr/>
        </p:nvPicPr>
        <p:blipFill>
          <a:blip r:embed="rId5"/>
          <a:stretch/>
        </p:blipFill>
        <p:spPr>
          <a:xfrm rot="2320800">
            <a:off x="3546000" y="4319280"/>
            <a:ext cx="997200" cy="9684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1067040" y="5562720"/>
            <a:ext cx="67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It was almost 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tle 1"/>
          <p:cNvSpPr/>
          <p:nvPr/>
        </p:nvSpPr>
        <p:spPr>
          <a:xfrm>
            <a:off x="2438280" y="990720"/>
            <a:ext cx="40388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The Gorilla was ahead by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jjohnson\Local Settings\Temporary Internet Files\Content.IE5\FMIT817P\MCj04347260000[1].png"/>
          <p:cNvPicPr/>
          <p:nvPr/>
        </p:nvPicPr>
        <p:blipFill>
          <a:blip r:embed="rId1"/>
          <a:stretch/>
        </p:blipFill>
        <p:spPr>
          <a:xfrm>
            <a:off x="3048120" y="31240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 flipH="1">
            <a:off x="2971440" y="2209680"/>
            <a:ext cx="3505320" cy="2617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jjohnson\Local Settings\Temporary Internet Files\Content.IE5\FMIT817P\MCj04244520000[1].wmf"/>
          <p:cNvPicPr/>
          <p:nvPr/>
        </p:nvPicPr>
        <p:blipFill>
          <a:blip r:embed="rId2"/>
          <a:stretch/>
        </p:blipFill>
        <p:spPr>
          <a:xfrm>
            <a:off x="2362320" y="1752480"/>
            <a:ext cx="2409840" cy="1162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549000" y="5181480"/>
            <a:ext cx="812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the alligator was ma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le 1"/>
          <p:cNvSpPr/>
          <p:nvPr/>
        </p:nvSpPr>
        <p:spPr>
          <a:xfrm>
            <a:off x="2057400" y="91440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The alligator bit the gori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914400" y="3352680"/>
            <a:ext cx="2971800" cy="2219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jjohnson\Local Settings\Temporary Internet Files\Content.IE5\30GCO75N\MCHM00047_0000[1].wmf"/>
          <p:cNvPicPr/>
          <p:nvPr/>
        </p:nvPicPr>
        <p:blipFill>
          <a:blip r:embed="rId2"/>
          <a:stretch/>
        </p:blipFill>
        <p:spPr>
          <a:xfrm>
            <a:off x="3505320" y="3429000"/>
            <a:ext cx="923760" cy="592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jjohnson\Local Settings\Temporary Internet Files\Content.IE5\64TZQHQH\MCj04260200000[1].wmf"/>
          <p:cNvPicPr/>
          <p:nvPr/>
        </p:nvPicPr>
        <p:blipFill>
          <a:blip r:embed="rId3"/>
          <a:stretch/>
        </p:blipFill>
        <p:spPr>
          <a:xfrm flipH="1">
            <a:off x="4419720" y="2286000"/>
            <a:ext cx="24825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965520" y="4114800"/>
            <a:ext cx="746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They started to f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 2"/>
          <p:cNvSpPr/>
          <p:nvPr/>
        </p:nvSpPr>
        <p:spPr>
          <a:xfrm>
            <a:off x="3276720" y="1905120"/>
            <a:ext cx="2743200" cy="2057400"/>
          </a:xfrm>
          <a:prstGeom prst="pi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xplosion 1 3"/>
          <p:cNvSpPr/>
          <p:nvPr/>
        </p:nvSpPr>
        <p:spPr>
          <a:xfrm>
            <a:off x="3276720" y="2057400"/>
            <a:ext cx="609480" cy="762120"/>
          </a:xfrm>
          <a:prstGeom prst="irregularSeal1">
            <a:avLst/>
          </a:prstGeom>
          <a:solidFill>
            <a:srgbClr val="c9da9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xplosion 2 4"/>
          <p:cNvSpPr/>
          <p:nvPr/>
        </p:nvSpPr>
        <p:spPr>
          <a:xfrm rot="3101400">
            <a:off x="4924440" y="3203280"/>
            <a:ext cx="838080" cy="914400"/>
          </a:xfrm>
          <a:prstGeom prst="irregularSeal2">
            <a:avLst/>
          </a:prstGeom>
          <a:solidFill>
            <a:srgbClr val="c9da9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fought for a lo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Finally the man said S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C:\Documents and Settings\jjohnson\Local Settings\Temporary Internet Files\Content.IE5\Y39XOFVM\MCj04242320000[1].wmf"/>
          <p:cNvPicPr/>
          <p:nvPr/>
        </p:nvPicPr>
        <p:blipFill>
          <a:blip r:embed="rId1"/>
          <a:stretch/>
        </p:blipFill>
        <p:spPr>
          <a:xfrm>
            <a:off x="762120" y="1600200"/>
            <a:ext cx="2178000" cy="217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Documents and Settings\jjohnson\Local Settings\Temporary Internet Files\Content.IE5\Y39XOFVM\MCj04402090000[1].wmf"/>
          <p:cNvPicPr/>
          <p:nvPr/>
        </p:nvPicPr>
        <p:blipFill>
          <a:blip r:embed="rId2"/>
          <a:stretch/>
        </p:blipFill>
        <p:spPr>
          <a:xfrm>
            <a:off x="3809880" y="5051520"/>
            <a:ext cx="1349640" cy="1806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Documents and Settings\jjohnson\Local Settings\Temporary Internet Files\Content.IE5\GRBJJYRJ\MCj04298170000[1].wmf"/>
          <p:cNvPicPr/>
          <p:nvPr/>
        </p:nvPicPr>
        <p:blipFill>
          <a:blip r:embed="rId3"/>
          <a:stretch/>
        </p:blipFill>
        <p:spPr>
          <a:xfrm>
            <a:off x="3657600" y="4724280"/>
            <a:ext cx="14590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re was a gorill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3962520" y="5257800"/>
            <a:ext cx="518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 flipH="1">
            <a:off x="685800" y="2438280"/>
            <a:ext cx="30160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2514600" y="28195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stopped and forgave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tle 1"/>
          <p:cNvSpPr/>
          <p:nvPr/>
        </p:nvSpPr>
        <p:spPr>
          <a:xfrm>
            <a:off x="2133720" y="1905120"/>
            <a:ext cx="51051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hiller"/>
              </a:rPr>
              <a:t>The End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C:\Documents and Settings\jjohnson\Local Settings\Temporary Internet Files\Content.IE5\813X96AR\MCj04352720000[1].wmf"/>
          <p:cNvPicPr/>
          <p:nvPr/>
        </p:nvPicPr>
        <p:blipFill>
          <a:blip r:embed="rId1"/>
          <a:stretch/>
        </p:blipFill>
        <p:spPr>
          <a:xfrm>
            <a:off x="1447920" y="3505320"/>
            <a:ext cx="241920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jjohnson\Local Settings\Temporary Internet Files\Content.IE5\ZMJOU54V\MCj04059720000[1].wmf"/>
          <p:cNvPicPr/>
          <p:nvPr/>
        </p:nvPicPr>
        <p:blipFill>
          <a:blip r:embed="rId2"/>
          <a:stretch/>
        </p:blipFill>
        <p:spPr>
          <a:xfrm flipH="1">
            <a:off x="5333760" y="4114800"/>
            <a:ext cx="2390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 flipH="1">
            <a:off x="1752480" y="1828800"/>
            <a:ext cx="3432240" cy="2563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038480" y="4876920"/>
            <a:ext cx="281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re was a alliga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533520"/>
            <a:ext cx="419112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hiller"/>
              </a:rPr>
              <a:t>They m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4952880" y="5684760"/>
            <a:ext cx="41911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555480" y="2057400"/>
            <a:ext cx="3330720" cy="248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4251240" y="1828800"/>
            <a:ext cx="2575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122840" y="5410080"/>
            <a:ext cx="789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wanted to pl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838080" y="2209680"/>
            <a:ext cx="3127320" cy="233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5243400" y="2057400"/>
            <a:ext cx="2497320" cy="2422440"/>
          </a:xfrm>
          <a:prstGeom prst="rect">
            <a:avLst/>
          </a:prstGeom>
          <a:ln w="0">
            <a:noFill/>
          </a:ln>
        </p:spPr>
      </p:pic>
      <p:sp>
        <p:nvSpPr>
          <p:cNvPr id="60" name="Oval 5"/>
          <p:cNvSpPr/>
          <p:nvPr/>
        </p:nvSpPr>
        <p:spPr>
          <a:xfrm>
            <a:off x="3048120" y="2895480"/>
            <a:ext cx="685800" cy="6858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09320" y="304920"/>
            <a:ext cx="4038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played socc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jjohnson\Local Settings\Temporary Internet Files\Content.IE5\CX58QCPV\MCj04370490000[1].png"/>
          <p:cNvPicPr/>
          <p:nvPr/>
        </p:nvPicPr>
        <p:blipFill>
          <a:blip r:embed="rId1"/>
          <a:stretch/>
        </p:blipFill>
        <p:spPr>
          <a:xfrm rot="2329200">
            <a:off x="3949200" y="3416040"/>
            <a:ext cx="1443240" cy="1442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 flipH="1">
            <a:off x="4495680" y="2133720"/>
            <a:ext cx="3330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438280" y="457200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played baseb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4191120" y="1828800"/>
            <a:ext cx="2496960" cy="242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jjohnson\Local Settings\Temporary Internet Files\Content.IE5\CX58QCPV\MCj04370740000[1].png"/>
          <p:cNvPicPr/>
          <p:nvPr/>
        </p:nvPicPr>
        <p:blipFill>
          <a:blip r:embed="rId2"/>
          <a:stretch/>
        </p:blipFill>
        <p:spPr>
          <a:xfrm flipH="1" rot="17550600">
            <a:off x="3634920" y="3483000"/>
            <a:ext cx="13510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5640" y="380880"/>
            <a:ext cx="39625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played Basketb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5105520" y="571500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 rot="20865600">
            <a:off x="-221760" y="3928680"/>
            <a:ext cx="346860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jjohnson\Local Settings\Temporary Internet Files\Content.IE5\CX58QCPV\MCj04370410000[1].png"/>
          <p:cNvPicPr/>
          <p:nvPr/>
        </p:nvPicPr>
        <p:blipFill>
          <a:blip r:embed="rId2"/>
          <a:stretch/>
        </p:blipFill>
        <p:spPr>
          <a:xfrm>
            <a:off x="3352680" y="31240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:\Documents and Settings\jjohnson\Local Settings\Temporary Internet Files\Content.IE5\VBN50SX8\MCj02997590000[1].wmf"/>
          <p:cNvPicPr/>
          <p:nvPr/>
        </p:nvPicPr>
        <p:blipFill>
          <a:blip r:embed="rId3"/>
          <a:stretch/>
        </p:blipFill>
        <p:spPr>
          <a:xfrm>
            <a:off x="6629400" y="1523880"/>
            <a:ext cx="1523880" cy="1420920"/>
          </a:xfrm>
          <a:prstGeom prst="rect">
            <a:avLst/>
          </a:prstGeom>
          <a:ln w="0">
            <a:noFill/>
          </a:ln>
        </p:spPr>
      </p:pic>
      <p:sp>
        <p:nvSpPr>
          <p:cNvPr id="74" name="Minus 8"/>
          <p:cNvSpPr/>
          <p:nvPr/>
        </p:nvSpPr>
        <p:spPr>
          <a:xfrm>
            <a:off x="8077320" y="-2286000"/>
            <a:ext cx="228600" cy="1013472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Documents and Settings\jjohnson\Local Settings\Temporary Internet Files\Content.IE5\BWJA6VH8\MCj02997890000[1].wmf"/>
          <p:cNvPicPr/>
          <p:nvPr/>
        </p:nvPicPr>
        <p:blipFill>
          <a:blip r:embed="rId1"/>
          <a:stretch/>
        </p:blipFill>
        <p:spPr>
          <a:xfrm rot="2456400">
            <a:off x="3174480" y="3102120"/>
            <a:ext cx="2754360" cy="230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 rot="876000">
            <a:off x="2953800" y="1595520"/>
            <a:ext cx="2711520" cy="2630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2028960" y="5334120"/>
            <a:ext cx="597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They also ski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6:57:23Z</dcterms:created>
  <dc:creator>itsuser</dc:creator>
  <dc:description/>
  <dc:language>en-US</dc:language>
  <cp:lastModifiedBy>itsuser</cp:lastModifiedBy>
  <dcterms:modified xsi:type="dcterms:W3CDTF">2009-05-05T17:20:57Z</dcterms:modified>
  <cp:revision>14</cp:revision>
  <dc:subject/>
  <dc:title>Gorilla vs. Alligator</dc:title>
</cp:coreProperties>
</file>